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5AA-3BFE-493C-884C-646656F49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8FC4-FF0C-4999-8B46-3F54FE6A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CDF7-88AD-4E53-908C-4BEEA227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513-470E-43A0-B15D-C5E24C49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8E9-5BAB-4F1C-A213-F0826F3A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46B4-EA16-4C2A-8A7F-05E95068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5F0-2A31-44D7-BA57-B6633D70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2B65-1815-44F5-9BE4-742E5E24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B9E5B83-D53B-4F7F-BDDB-F622B04AB70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51520"/>
            <a:ext cx="9144000" cy="906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DCFA10C-7E15-4F83-959C-CF0BAD89852E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D0C1DF6-0A85-408F-9D52-6D072BCE383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40160"/>
            <a:ext cx="8766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0:  Delivering a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ivering a Present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livering a presentation, you can use Slide Notes to aide you in your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Notes can be printed like note cards so that it doesn’t disrupt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8FC20A7-FA1A-4987-9301-8780995A082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Not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599840"/>
            <a:ext cx="76960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 do not display during slides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 Notes pages for handou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add notes in the Notes pane in Norma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format not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A47CCD8-AB56-424E-BBE8-8F1A8FC3AB0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23880" y="3903840"/>
            <a:ext cx="5591160" cy="2352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923000" y="3124080"/>
            <a:ext cx="4221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esentation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BEE6492-0D01-46F9-85B0-48F1FCF0B40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Jean Bissell-Privett\Local Settings\Temporary Internet Files\Content.IE5\B84JFXV6\MCj00787100000[1].wmf"/>
          <p:cNvPicPr/>
          <p:nvPr/>
        </p:nvPicPr>
        <p:blipFill>
          <a:blip r:embed="rId1"/>
          <a:stretch/>
        </p:blipFill>
        <p:spPr>
          <a:xfrm>
            <a:off x="6675480" y="628560"/>
            <a:ext cx="2346120" cy="2913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18960" y="1600200"/>
            <a:ext cx="83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now your message: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s allows you to talk with the audience rather than read to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ok at the audienc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ake eye contact with one person briefly (2-3 seconds) then move on to another pers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now how to use the visuals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Practice using the visual aids you have chosen for the presentation. Glance at each visual as you display it, then focus on your aud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5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esentation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CF82CE9-D190-4AE7-8EBA-2F27FC264C1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C:\Documents and Settings\Jean Bissell-Privett\Local Settings\Temporary Internet Files\Content.IE5\B84JFXV6\MCj00787100000[1].wmf"/>
          <p:cNvPicPr/>
          <p:nvPr/>
        </p:nvPicPr>
        <p:blipFill>
          <a:blip r:embed="rId1"/>
          <a:stretch/>
        </p:blipFill>
        <p:spPr>
          <a:xfrm>
            <a:off x="146160" y="304920"/>
            <a:ext cx="2347920" cy="291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06080" y="156672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y the volume and rate at which you spea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Slow down to emphasize points. Speed up on points you know are familiar to au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k confiden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Show that you want to communicate with audience &amp; stand tal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t your personality come through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e natural; Show enthusiasm for topic you are prese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gestures and facial expres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mile, frown, or puzzled look, when appropriate, can help communicate your message. Make sure gestures are natu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nim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otion, sound, entrance,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transitions between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from Transition to This Slide group on Animations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objects on a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imation from Animate list (Animations group on Animations t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D535B51-9A58-4766-800F-181570011F1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nimation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CF83837-0F82-4633-A5CA-04B30D12A13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15920" y="3286080"/>
            <a:ext cx="8926560" cy="857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493560" y="1698480"/>
            <a:ext cx="37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text enters, exits, or adds emphasis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4789440" y="1698480"/>
            <a:ext cx="39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ptions, if available on the animation you c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93560" y="43545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Pane: shows all animations made on side of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: allows you to “trigger” with mouse click or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Group allows you to self-pace your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8"/>
          <p:cNvCxnSpPr/>
          <p:nvPr/>
        </p:nvCxnSpPr>
        <p:spPr>
          <a:xfrm flipH="1">
            <a:off x="2872800" y="2540160"/>
            <a:ext cx="146520" cy="1002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0" name="Straight Arrow Connector 11"/>
          <p:cNvCxnSpPr/>
          <p:nvPr/>
        </p:nvCxnSpPr>
        <p:spPr>
          <a:xfrm flipV="1">
            <a:off x="7757640" y="4142880"/>
            <a:ext cx="1080" cy="1735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1" name="Straight Arrow Connector 12"/>
          <p:cNvCxnSpPr/>
          <p:nvPr/>
        </p:nvCxnSpPr>
        <p:spPr>
          <a:xfrm flipH="1" flipV="1">
            <a:off x="6784200" y="3714480"/>
            <a:ext cx="175320" cy="14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13"/>
          <p:cNvCxnSpPr/>
          <p:nvPr/>
        </p:nvCxnSpPr>
        <p:spPr>
          <a:xfrm flipV="1">
            <a:off x="5920920" y="3693600"/>
            <a:ext cx="305640" cy="718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Straight Arrow Connector 14"/>
          <p:cNvCxnSpPr/>
          <p:nvPr/>
        </p:nvCxnSpPr>
        <p:spPr>
          <a:xfrm flipH="1">
            <a:off x="5485680" y="2836800"/>
            <a:ext cx="740520" cy="705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4-06T04:06:38Z</dcterms:modified>
  <cp:revision>24</cp:revision>
  <dc:subject/>
  <dc:title>Slide 1</dc:title>
</cp:coreProperties>
</file>